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4BAC9-B0AC-4B4C-AC36-13E62D080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1F367-BB52-4604-B96D-F4FEC8C559BC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9D5BD-F678-4C38-B16A-5EA7F2FEC9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8B6BF-FF69-4E11-B125-E51B79E6F6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C13D9-E4A3-43E8-8465-2C74933129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C7237-BD89-4FA2-A961-1D96CF416B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F7A00-7359-4051-9B44-B428EB4782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489E9-E703-4D45-9573-F0277AA4A4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1B2B5-4C3D-44EE-BF2C-4BB499513B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1C501-5DD9-453F-9ABE-FE67B66149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5E78C-F026-4905-BA22-AA96D8D849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5E644-612F-4106-8E7B-2342E5C66D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CB513-ADF3-4324-AD57-19F371D081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C1328-ABFE-4929-B807-E11EF9CB8A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1B1A3-AE76-472F-A869-8D4C9CAAE7C7}" type="slidenum"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r>
              <a:rPr b="0" lang="sr-Latn-CS" sz="2400" spc="-1" strike="noStrike">
                <a:solidFill>
                  <a:srgbClr val="4d4d4d"/>
                </a:solidFill>
                <a:latin typeface="Times New Roman"/>
              </a:rPr>
              <a:t> od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10"/>
          <p:cNvSpPr/>
          <p:nvPr/>
        </p:nvSpPr>
        <p:spPr>
          <a:xfrm>
            <a:off x="0" y="2664000"/>
            <a:ext cx="6227640" cy="1008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360" y="2708280"/>
            <a:ext cx="6408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UPRAVLJANJE PROJEKTIMA</a:t>
            </a: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6227640" y="5734080"/>
            <a:ext cx="2737080" cy="3380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179280" y="6453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februar 2007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5286240" y="4611600"/>
            <a:ext cx="3237120" cy="22348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ww.grfic.com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o je samo primer, nikako ne predajte ovo kao vasu prezentaciju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570A9-8526-4B26-8365-8D0FC29845E6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Project Manage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Stručnjak koji upravlja projektima naziva se </a:t>
            </a:r>
            <a:r>
              <a:rPr b="1" lang="sr-Latn-CS" sz="2800" spc="-1" strike="noStrike" u="sng">
                <a:solidFill>
                  <a:srgbClr val="4d4d4d"/>
                </a:solidFill>
                <a:uFillTx/>
                <a:latin typeface="Arial"/>
              </a:rPr>
              <a:t>Project Manager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Od njega se očekuje da pored poznavanja tehnologije izvođenja građevinskih radova, razvije i primenjuje sopstvenu tehnologiju upravljanja gradilišta.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F1ACC-01BF-4A1E-829C-70B8E4B8E359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47640" y="184428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Zaključak</a:t>
            </a: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pravljanje projektima je bitno jer :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Smanjuje troškove građenja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Smanjuje period izgradnje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Povećava kvalitet gradnje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Povećava profit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Zbog toga je upravljanje projektima jedan bitan deo u oblasti građevinarstva.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2420640"/>
            <a:ext cx="615636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ahoma"/>
              </a:rPr>
              <a:t>HVALA NA PAŽNJI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2D65B-4C93-4193-AF7D-78CB0488F5B1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764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Pregled Izlaganja: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76480" y="2276280"/>
            <a:ext cx="7643520" cy="39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Šta je Projekat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oblemi u realizaciji projekt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pravljanje projekto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incip upravljan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ojekt Manadžer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E0634-A2D7-4E58-8709-0023CE029209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47640" y="184428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Šta je Projekat?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ojekat koji za cilj ima izgradnju i opremanje građevinskog objekta naziva se </a:t>
            </a:r>
            <a:r>
              <a:rPr b="1" lang="sr-Latn-CS" sz="2800" spc="-1" strike="noStrike" u="sng">
                <a:solidFill>
                  <a:srgbClr val="292929"/>
                </a:solidFill>
                <a:uFillTx/>
                <a:latin typeface="Arial"/>
              </a:rPr>
              <a:t>građevinski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ili češće </a:t>
            </a:r>
            <a:r>
              <a:rPr b="1" lang="sr-Latn-CS" sz="2800" spc="-1" strike="noStrike" u="sng">
                <a:solidFill>
                  <a:srgbClr val="292929"/>
                </a:solidFill>
                <a:uFillTx/>
                <a:latin typeface="Arial"/>
              </a:rPr>
              <a:t>investicioni projekat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Zavisno od veličine objekta, projekti mogu biti manje ili više obimni ali bez obzira na to projekti su kompleksni tehničko-tehnološki, organizacioni, finanskijski i pravni procesi.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47D62-415E-4021-95A8-106B7E110670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1280" y="177300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Problemi u realizaciji projekta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6920" y="2349360"/>
            <a:ext cx="764388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Vremenski uslovi,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Inflacije, cene materijala i potrebština,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Kratki rokovi građenja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esuglasice oko ugovora 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187280" y="4581360"/>
            <a:ext cx="7561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Zbog ovih a i mnogih drugih problema postoji  potreba za sistemom upravljanja projekt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DFE3C-56E0-4298-8AAB-36BD34942CF9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Upravljanje Projekto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1403280" y="2708280"/>
            <a:ext cx="748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Upravljanje projektom je slo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žen i odgovoran posao organizacije građevinskog projekta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omoću sistema upravljanja, projekat se realizuje na ekonomičan, kvalitetan, brz i efikasan način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pravljanje projektom je bitan faktor svakog građenja koji na “pametan” način olakšava proces realizacij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9AA77-6BA4-43D0-8CA0-1336DA52DB84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Upravljanje Projekto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403280" y="2708280"/>
            <a:ext cx="748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Svaki projekat mora da ima upravaljački podsistem koji definiše: plan, ciljeve, politiku, strategiju, organizaciju, donosi odluke..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4d4d4d"/>
                </a:solidFill>
                <a:uFillTx/>
                <a:latin typeface="Arial"/>
              </a:rPr>
              <a:t>Planom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se definiše skup određenih aktivnosti, njihovih međuzavisnosti, trajanja istih i potrebnih resursa i sredstava za njihovo izvršenje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sr-Latn-CS" sz="2800" spc="-1" strike="noStrike" u="sng">
                <a:solidFill>
                  <a:srgbClr val="4d4d4d"/>
                </a:solidFill>
                <a:uFillTx/>
                <a:latin typeface="Arial"/>
              </a:rPr>
              <a:t>Cilj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definiše stanje posistema koje se želi postići (realizacija projekta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BBC80-3BC9-4A63-8E38-CB395DD5CAFD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187280" y="2421000"/>
            <a:ext cx="7705800" cy="43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Svaki upravljački podsistem mora da upravlja: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Obimom projekt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Vremenom (“Vreme je novac”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Troškovim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Kvaliteto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abavko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Riziko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87280" y="1773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Upravljanje Projekto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F5D15-3943-4A33-B186-8EF576D51E8A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pravljanje projektima je veoma složen i komplikovan posao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Treba imati u vidu da obaveze svakog pojedinca koji učestvuje u projektu moraju biti jasno definisan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pr. gradilište sa par stotina radnika i velikim obimom posla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187280" y="1773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Upravljanje Projekto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11AB9-986A-415F-96A5-9D0C652720F2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31640" y="191592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Princip Upravljanja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71280" y="2492280"/>
            <a:ext cx="78483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4d4d4d"/>
                </a:solidFill>
                <a:latin typeface="Arial"/>
              </a:rPr>
              <a:t>U realizaciji svakog projekta dolazi do komplikacija koje utiču na tok realizacije. Zato svaki projekat mora da ima sistem kontrole koji se sastoji od: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d4d4d"/>
                </a:solidFill>
                <a:latin typeface="Arial"/>
              </a:rPr>
              <a:t>Procene (planiranja) onog što će se dogoditi,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d4d4d"/>
                </a:solidFill>
                <a:latin typeface="Arial"/>
              </a:rPr>
              <a:t>Uvida u stvarno stanje radova (monitoring),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d4d4d"/>
                </a:solidFill>
                <a:latin typeface="Arial"/>
              </a:rPr>
              <a:t>Poređenje planiranog i ostvarenog ,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d4d4d"/>
                </a:solidFill>
                <a:latin typeface="Arial"/>
              </a:rPr>
              <a:t>Preduzimanje akcije za minimizaciju odstupanja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22:18:25Z</dcterms:created>
  <dc:creator>Jovan Cvetanovic</dc:creator>
  <dc:description/>
  <dc:language>en-US</dc:language>
  <cp:lastModifiedBy>HOME</cp:lastModifiedBy>
  <dcterms:modified xsi:type="dcterms:W3CDTF">2008-02-02T11:02:31Z</dcterms:modified>
  <cp:revision>15</cp:revision>
  <dc:subject>upravaljanje projektima</dc:subject>
  <dc:title>UPRAVLJANJE PROJEKTIM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wner">
    <vt:lpwstr>Jovan Cvetanovic</vt:lpwstr>
  </property>
</Properties>
</file>